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A72-51AB-4068-B1AD-F5415783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BCC-16CE-4F68-9A93-49A4BA00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731-0B24-4B28-A2D7-23F424F7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1CE-E412-4540-A51B-8DBBBD45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33A7-1558-4DBB-AA7F-6CDA260A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E23E-5BE6-4497-8546-37CAC280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82A9-C791-4BA9-BA67-4A2FF941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720C-2034-4793-8910-1E00FA0F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34FC-9A1A-4F03-B7D7-0722ECE5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4E65-353A-4F36-82A8-3B3B2DBA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87B6-D040-44C8-9ADB-0B19F3DA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509-B082-4B75-A8F7-FA6F751D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31D0-2041-4184-A7D1-9034B827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EF9D-0BBC-4D44-BE62-F64E3A4B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070D-62EB-49CC-8EA0-77098892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45F1-670B-4A1F-81BA-10EFF17E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EFDE-90CD-4D84-8920-793CB994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158-ECF2-4D51-BFD6-C076F6DF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145-A287-4728-A127-4614DDD8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72B-7B2E-44E3-BEB4-4F17B090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5FC-91A1-464F-A14D-74AEE8DB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AC3-459A-45A4-AE31-C2958816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E87-90C0-4D5D-8E15-61377E85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87C-A5D6-4CFA-B147-529E0575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8116-1B7A-45E5-A7E0-CDDEDC1FAFA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4A01-86D4-4D1B-B52A-A1D9A0EAD87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nited States Histo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hapter 1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ssential Ques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 is history, and why should we study it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es the past shape the present and the futur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we shape history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istory begins with a question or problem…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How can this question be answered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ather evide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tifact = human made obje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rimary source = document or other record of past events by people who were present during the event or the perio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ary source = book or commentary about an event from someone who was not present during the event or the perio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How can this question be answered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lect and weigh evide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xamine point of view – perspective or outlook on ev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sider bias – information or conclusions that reflect a distinct point of view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construct and interpret the Pa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stablish chronology – sequence of ev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alysis of events supported by eviden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s History ever finished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pe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Study History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e9964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ad Section 1.4  pages 12-13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e9964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ist and rank the four reasons for studying histo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 = most importa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4 = least importa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rite a brief reason for each rank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t’s all about you (literally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imeline Activi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a timeline of your life from the time you were born to the age you are now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n your timeline use a mark for each year of your lif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rite the five most important events of your life on the timeline with your age and a brief description of what happened and why it was importan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add illustrations if you choos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mework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sk someone in your family what they think the five most important events in your life wer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pdate your timeline (in a different color) with your family member’s opini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 the bottom or on the back of the timeline explain why you think you and your family member interpreted the past similarly or differently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rcks Timel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0160" y="323856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Fire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reated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7920" y="31622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Dircks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orn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4764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0,000 B.C.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24240" y="2476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965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24440" y="2476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985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23000" y="316224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ollege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n Scotland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48320" y="2476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990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316224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Marries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m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247644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993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71840" y="316224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aley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orn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048120"/>
            <a:ext cx="533520" cy="2057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02240" y="476244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ot much happens between !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56:27Z</dcterms:created>
  <dc:creator> </dc:creator>
  <dc:description/>
  <dc:language>en-US</dc:language>
  <cp:lastModifiedBy> </cp:lastModifiedBy>
  <dcterms:modified xsi:type="dcterms:W3CDTF">2008-08-20T20:41:36Z</dcterms:modified>
  <cp:revision>7</cp:revision>
  <dc:subject/>
  <dc:title>American Studies</dc:title>
</cp:coreProperties>
</file>